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D01-B1AD-4F2C-9DFC-DA5AD92D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896-AF44-4188-A354-6AC9A1A6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7F4-5B0C-4C1D-BAF5-4FF209E0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756-2EB6-4938-92AA-580C64AD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0C9D-2C4C-4B6F-93E8-2368E5B3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2A6C-954D-407E-9C7F-7FFF65DC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3646-6611-4642-938F-908EF9A1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2F2D-D7C1-41D5-98E9-CA554A67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3075-172C-4F4F-AD6B-6A83BA89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2569-5EFD-4024-8CE2-4C8BA7A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A70D-51D0-49DC-B50C-7F3BF5B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8AE-9DFC-4D2F-9C35-806E1D3B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1A4E-525F-44FE-9E69-56A6BF8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6C13-9A7C-479E-BD29-20EDF1C5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4C14-FDA2-4DFF-A40E-5098306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FC1D-59BA-4640-9E03-48528C90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1EA3-2190-429E-A048-8C17087C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96D-9407-46AF-B2F4-A11A852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A19-4334-455C-B2EA-F0CE2DF6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6D5-3F7B-42E0-9CB0-8B790A53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C87-EAFF-4E33-ADCD-5F583F81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1CE-79DF-4FBB-90A0-5C504EE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355-E74D-4018-9688-6848046B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1F2-EC17-4BAB-A5A1-D89CCAB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2E72-C7A2-4EF6-98BB-67C7A48FC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DE4-8A36-46FA-ACC2-AEC268EA46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The Enlightenmen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eorists and Theorie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Beccaria &amp; Wollstonecraf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810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Italian, focused on law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unishment should fit the crim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No tortur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Speedy trial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(Bill of Rights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0" y="1523880"/>
            <a:ext cx="3581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English activist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Women should fight to be politicians and scientist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Women’s groups start in England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opular in salon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onnection to French Revolution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omas Paine: Rights of Ma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Equality under the law, freedom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Greatest time of intellec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Create true reform based on knowledge of human natur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Middle class/intelligentsia challenge traditional roles and custom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Farewell to King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hurch is part of problem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9250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Create an eight person bracket of philosophers and explain who wins each round and why.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2" name="Picture 7" descr="http://www.boncherry.com/blog/wp-content/uploads/2011/03/ncaa-march-madness-2011-bracket-500x388.png"/>
          <p:cNvPicPr/>
          <p:nvPr/>
        </p:nvPicPr>
        <p:blipFill>
          <a:blip r:embed="rId1"/>
          <a:stretch/>
        </p:blipFill>
        <p:spPr>
          <a:xfrm>
            <a:off x="2057400" y="2955960"/>
            <a:ext cx="50292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Political Spectrum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7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707"/>
                </a:solidFill>
                <a:latin typeface="Times New Roman"/>
              </a:rPr>
              <a:t>Conservative: maintain the status quo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1070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707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Wealthy or powerful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Benefit from current syste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Morally tied to the current regim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Value items based on usefulness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5" descr="pro-life"/>
          <p:cNvPicPr/>
          <p:nvPr/>
        </p:nvPicPr>
        <p:blipFill>
          <a:blip r:embed="rId1"/>
          <a:stretch/>
        </p:blipFill>
        <p:spPr>
          <a:xfrm>
            <a:off x="0" y="4724280"/>
            <a:ext cx="164160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1_marriage"/>
          <p:cNvPicPr/>
          <p:nvPr/>
        </p:nvPicPr>
        <p:blipFill>
          <a:blip r:embed="rId2"/>
          <a:stretch/>
        </p:blipFill>
        <p:spPr>
          <a:xfrm>
            <a:off x="7265880" y="4038480"/>
            <a:ext cx="187812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InGodWeTrust1"/>
          <p:cNvPicPr/>
          <p:nvPr/>
        </p:nvPicPr>
        <p:blipFill>
          <a:blip r:embed="rId3"/>
          <a:stretch/>
        </p:blipFill>
        <p:spPr>
          <a:xfrm>
            <a:off x="396252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Liberal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ek change or reform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upport programs to help the less fortunate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axes used for common good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ght for individual rights and freedoms over securi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Representative governmen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upport labor and worker group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0" name="Picture 5" descr="Gay%2520Rights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reespeech"/>
          <p:cNvPicPr/>
          <p:nvPr/>
        </p:nvPicPr>
        <p:blipFill>
          <a:blip r:embed="rId2"/>
          <a:stretch/>
        </p:blipFill>
        <p:spPr>
          <a:xfrm>
            <a:off x="6095880" y="5167440"/>
            <a:ext cx="3048120" cy="16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omepic"/>
          <p:cNvPicPr/>
          <p:nvPr/>
        </p:nvPicPr>
        <p:blipFill>
          <a:blip r:embed="rId3"/>
          <a:stretch/>
        </p:blipFill>
        <p:spPr>
          <a:xfrm>
            <a:off x="0" y="5340240"/>
            <a:ext cx="16002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Moderat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omeone who takes a middle positi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Weigh each decision separatel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ossibly share both conservative and liberal idea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Agree/Disagre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n nature, man is good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A persons freedom of speech should not be hindered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e death penalty is an acceptable form of punishmen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e universe is bound by laws (Sci. &amp; Math), making human comprehension possible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Having multiple political parties benefits a government/socie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Enlightenmen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66320" y="1523880"/>
            <a:ext cx="7239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Age of Reas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hilosophy and theory becomes the focu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Liberation of thought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Existence is rationalized via scientific method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Leads to political reform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Rights &amp; Republic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Thomas Hobbes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English monarchi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eople are evil and selfish (war)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ocial Contract – Government cages the human bea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Wrote Leviathan, supports monarchy in the English Civil War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0" name="Picture 5" descr="Thomas%2520Hobbes%25202"/>
          <p:cNvPicPr/>
          <p:nvPr/>
        </p:nvPicPr>
        <p:blipFill>
          <a:blip r:embed="rId1"/>
          <a:stretch/>
        </p:blipFill>
        <p:spPr>
          <a:xfrm>
            <a:off x="6951600" y="4343400"/>
            <a:ext cx="1960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John Lock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9343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English philosopher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abula rasa: people are blank slates to be written 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eople choose their government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Life, liberty, and proper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Declaration of Independence is based on his idea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3" name="Picture 5" descr="locke-john"/>
          <p:cNvPicPr/>
          <p:nvPr/>
        </p:nvPicPr>
        <p:blipFill>
          <a:blip r:embed="rId1"/>
          <a:stretch/>
        </p:blipFill>
        <p:spPr>
          <a:xfrm>
            <a:off x="7153200" y="0"/>
            <a:ext cx="1990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Jean-Jacques Rousseau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9343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rench theori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eople are born good but are corrupted by the vices of socie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ocial contract: government functions for the greatest good, people vote to direct i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Used as a support for the French Revoluti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6" name="Picture 5" descr="Rousseau"/>
          <p:cNvPicPr/>
          <p:nvPr/>
        </p:nvPicPr>
        <p:blipFill>
          <a:blip r:embed="rId1"/>
          <a:stretch/>
        </p:blipFill>
        <p:spPr>
          <a:xfrm>
            <a:off x="7315200" y="0"/>
            <a:ext cx="163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Montesquieu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162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dealizes British governmen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ree branch system (checks &amp; balances)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mpacted the Constituti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9" name="Picture 5" descr="Montesquieu"/>
          <p:cNvPicPr/>
          <p:nvPr/>
        </p:nvPicPr>
        <p:blipFill>
          <a:blip r:embed="rId1"/>
          <a:stretch/>
        </p:blipFill>
        <p:spPr>
          <a:xfrm>
            <a:off x="6240600" y="3733920"/>
            <a:ext cx="2903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Philosophes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rench philosopher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ore belief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Reason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Liberty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Voltair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086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riticizes aristocracy, government and clerg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Wrote </a:t>
            </a:r>
            <a:r>
              <a:rPr b="0" i="1" lang="en-US" sz="3200" spc="-1" strike="noStrike">
                <a:solidFill>
                  <a:srgbClr val="09817e"/>
                </a:solidFill>
                <a:latin typeface="Times New Roman"/>
              </a:rPr>
              <a:t>Candide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ght for freedoms: speech, religion, prote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mpacted Bill of Right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4" name="Picture 5" descr="voltaire-face"/>
          <p:cNvPicPr/>
          <p:nvPr/>
        </p:nvPicPr>
        <p:blipFill>
          <a:blip r:embed="rId1"/>
          <a:stretch/>
        </p:blipFill>
        <p:spPr>
          <a:xfrm>
            <a:off x="6230880" y="3886200"/>
            <a:ext cx="2913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3:10:26Z</dcterms:created>
  <dc:creator>Robert Kuenzi</dc:creator>
  <dc:description/>
  <dc:language>en-US</dc:language>
  <cp:lastModifiedBy>Technology Department</cp:lastModifiedBy>
  <dcterms:modified xsi:type="dcterms:W3CDTF">2013-03-18T14:29:28Z</dcterms:modified>
  <cp:revision>15</cp:revision>
  <dc:subject/>
  <dc:title>The Enlighte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51033</vt:lpwstr>
  </property>
</Properties>
</file>